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707-7B9A-48C0-9857-E70A14B1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1BB-959C-4724-902B-515F4829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371-3D83-4C4F-A287-E741A1EE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40A-CFC3-4679-9643-54EE777F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CCC-6DFE-4975-9E5A-8C7B7B0F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532-3361-4D44-8004-BCDD1F06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AEB-D92A-4ACA-A00D-41C61CF6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0B8-D024-4127-B6BA-68F241E7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49F-D1C8-4EB8-B5B3-0149B4A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CE3-7632-48F5-BCC3-31F96AA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3C5-FB45-4D41-9CE8-1750681D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0E6-1A4F-4971-A2C5-523641E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8E59-A856-406C-972E-03DBB178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6:35Z</dcterms:created>
  <dc:creator>INVES-S6600A</dc:creator>
  <dc:description/>
  <dc:language>en-US</dc:language>
  <cp:lastModifiedBy>INVES-S6600A</cp:lastModifiedBy>
  <dcterms:modified xsi:type="dcterms:W3CDTF">2010-11-23T13:27:07Z</dcterms:modified>
  <cp:revision>1</cp:revision>
  <dc:subject/>
  <dc:title>Diapositiva 1</dc:title>
</cp:coreProperties>
</file>